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E6DE-16A8-4AD9-B0B6-55CE02C24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m hope I’m not forgetting something obvi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of benefits.  Everyone pretty much knows these, but might as well mention for the uninitiat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ill in as necessary scott, I don’t want to leave anybody out, these were just the ones I could come with off the top of my hea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P == ‘As Many People As Possible’  (I made this acronym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ould  like to stress here is simple.  The toy application will not encompass all of the requirements of a MOD, but provide a small job that proponents of a given middleware solution would code with their middleware.  The idea would be that people could get an idea by looking at this code how it would solve the general problem of database queries and writing a simple web application.    I’m sure there’s lots to consider other than how they solve a problem side by side, but this would really get the discussion going I thin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y ideas.   There will likely be more and better ideas, hopefully people will agree to keep it simple though, otherwise we risk people not participating – everyone is pressed for time and money.   I would really like someone to volunteer to make mock ups of the web page and curation interface if it is decided on that this is the way to proce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D1FFA-D4BE-4F86-B28E-9B3B422E8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920EC-C8BE-49CD-B421-121FD2821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BA8F1-42A6-4230-9B0A-F181A36FE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0507C-942B-45F2-90BB-EACDD3603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2CB00-E38A-494E-91AA-08FC1AFD47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06DEA-8766-446F-AB6F-037D9C8D9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CF493-07EB-499F-8CFA-5C7755DA9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68D13-51EA-4D0A-BAA0-9F836473D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BA5BD-050A-4F1E-8461-2AEC1DABF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1DA90-C38C-4EAA-A4CB-B441503CC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37B49-7422-459C-ACDF-8155ED02F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0E200-7136-4C9E-8A56-1EA9992D4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FE77-E720-4EC4-84B5-9A79F67E8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57C04-853F-4C65-9DCF-DC4AFA31A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D2373-9A19-4036-91FA-69688B80B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79F8F-0509-4800-8C1D-3B66BA477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9941CB-C6B3-40B4-8470-21D221BFF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EF0F-1ECC-441E-8ED8-8AEEF789C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BB79A-C650-4D9B-8E06-D5FE561E9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768AE-01ED-4EE4-81CF-EFB16FB8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98596-BB6D-4F66-8BE8-8CDE830C3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A767A-849E-4368-96F3-ADAF557F8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A4BF-47BB-484F-BA67-61FCEE8F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602D-C867-4227-B2F5-1397F0AA1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126B7-0E42-4F23-A0A3-75527652DB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7C68-664B-435E-BA76-104D07CF5DB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MOD Architecture Working Group</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Summer 2006</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pared for Scott Cai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ric Jus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Elements</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 of the following have been immensely successful in getting us to work together</a:t>
            </a:r>
            <a:endParaRPr b="0" lang="en-US" sz="32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d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Browse</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llo</a:t>
            </a:r>
            <a:endParaRPr b="0" lang="en-US" sz="2800" spc="-1" strike="noStrike">
              <a:solidFill>
                <a:srgbClr val="ffffff"/>
              </a:solidFill>
              <a:latin typeface="Tahoma"/>
            </a:endParaRPr>
          </a:p>
          <a:p>
            <a:pPr lvl="1" marL="735480" indent="-28296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MOD applications</a:t>
            </a:r>
            <a:endParaRPr b="0" lang="en-US" sz="28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ader</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do::AutoDBI</a:t>
            </a:r>
            <a:endParaRPr b="0" lang="en-US" sz="2400" spc="-1" strike="noStrike">
              <a:solidFill>
                <a:srgbClr val="ffffff"/>
              </a:solidFill>
              <a:latin typeface="Tahoma"/>
            </a:endParaRPr>
          </a:p>
          <a:p>
            <a:pPr lvl="2" marL="1131480" indent="-226080">
              <a:spcBef>
                <a:spcPts val="601"/>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FF3</a:t>
            </a:r>
            <a:endParaRPr b="0" lang="en-US" sz="24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ommon Middleware Layer?</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uld give us a  common framework for developme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ed up development</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arn one middleware, use on many project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e efficient use of tim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ds a do-it-yourself aspect to GMO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extending/customizing easier</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iddlware Approaches</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Relational Mapping </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 Chado::AutoDBI</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va: Tim Carver et al.</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ML Dumping/Reading/Loading (XOR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ject Oriented Perl/BioPerl (Modwa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different approach has its </a:t>
            </a:r>
            <a:r>
              <a:rPr b="1" lang="en-US" sz="2800" spc="-1" strike="noStrike">
                <a:solidFill>
                  <a:srgbClr val="ffffff"/>
                </a:solidFill>
                <a:latin typeface="Tahoma"/>
              </a:rPr>
              <a:t>strengths</a:t>
            </a:r>
            <a:r>
              <a:rPr b="0" lang="en-US" sz="2800" spc="-1" strike="noStrike">
                <a:solidFill>
                  <a:srgbClr val="ffffff"/>
                </a:solidFill>
                <a:latin typeface="Tahoma"/>
              </a:rPr>
              <a:t> and weakness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ut…..</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hard for people to evaluate the different approaches… </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arning curve associated with different languages/platform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o has the tim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ation can be tricky</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decide on a development platform for GMOD app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ever, AMPAP must understand the basic idea behind each approach</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To Evaluate</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ather requirements for a ‘toy’ applicatio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ddleware proponents could code solution using their middleware of choi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xt meeting, talk us through i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mon problem will help compare different approach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requirements for this ‘toy’ application?</a:t>
            </a:r>
            <a:endParaRPr b="0" lang="en-US" sz="4000" spc="-1" strike="noStrike">
              <a:solidFill>
                <a:srgbClr val="ffffcc"/>
              </a:solidFill>
              <a:latin typeface="Tahoma"/>
            </a:endParaRPr>
          </a:p>
        </p:txBody>
      </p:sp>
      <p:sp>
        <p:nvSpPr>
          <p:cNvPr id="4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web page showing position, peptide sequence, and description of a gene transcrip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curation page to edit some information about a gen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ole script to output fasta sequences of all protein coding transcrip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olunteers</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static mock ups of any web page or curation form</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st on Drupal sit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its posted, middleware to crank out cod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ank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9T15:49:50Z</dcterms:created>
  <dc:creator>Eric Just</dc:creator>
  <dc:description/>
  <dc:language>en-US</dc:language>
  <cp:lastModifiedBy>Eric Just</cp:lastModifiedBy>
  <dcterms:modified xsi:type="dcterms:W3CDTF">2006-06-20T15:43:29Z</dcterms:modified>
  <cp:revision>15</cp:revision>
  <dc:subject/>
  <dc:title>GMOD Architecture Working Group</dc:title>
</cp:coreProperties>
</file>